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14.pct" ContentType="image/x-pict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3.pct" ContentType="image/x-pict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3AF-B7FE-48E6-BC62-2D6E4FF6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8972-A5E8-4EDD-827F-D63CE451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F0B-20A9-409B-8378-03D7E073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D993-F65F-42D4-AE5C-15ABD78B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30A-69EF-44EE-A912-6764A94C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D3FB-0F9E-4047-A6FF-F3188A05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77A3-257E-4754-8468-E59B014F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4EE4-E491-4760-A33B-EB21B5B9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15AF-5CD0-4E6D-B57D-AB003825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10CF-A508-410D-8222-5C63A95C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D511-D7D6-47E7-A209-2A708C0E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16D3-EFF0-4B46-ABB1-8AC08DC2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66"/>
                </a:solidFill>
                <a:latin typeface="Times New Roman"/>
              </a:rPr>
              <a:t>2008 January  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66"/>
                </a:solidFill>
                <a:latin typeface="Times New Roman"/>
              </a:rPr>
              <a:t>EXPReS Board Meeting, Utrecht, the Netherlands: S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23B911FF-E7EE-463D-8C8E-2AC3DB06C710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ct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A1: second year overview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rpad Szom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ata rate improve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809880" y="2971800"/>
          <a:ext cx="5194440" cy="319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971800"/>
                    <a:ext cx="5194440" cy="31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1143000"/>
          <a:ext cx="5378400" cy="3308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143000"/>
                    <a:ext cx="537840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0D1E-03DF-4F91-B2E5-A45C62511CD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...and various operational improve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67816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necting stations on-the-f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WSRT synthesis data for e-VLBI calibration (absolute flux calibration, polarization calibration, source select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-craft tracking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0B8C-473A-4A1F-8FA8-8508A9D53C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Mark5 upgrade: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752480"/>
            <a:ext cx="7162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 lvl="1" marL="537120" indent="-18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8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8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VLBI capability in Mark5B (nonexist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mino most important for now, will allow stations to move 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expected within 1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8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5B playback at EVN corre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fri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ome issue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8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8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C784-8470-4824-AE4A-83CEC4FE00B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Ongoing/upcoming software develop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990720"/>
            <a:ext cx="71629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the-fly fringe fi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download and extraction of stat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ed correlator diagno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igation of a 1024M sub-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ive obser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0A26-26FE-4801-937F-6C987C18894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And more global connection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990720"/>
            <a:ext cx="71629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cibo at 512 Mbps (for limited perio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128 Mbps continu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GO: opportunity to increase bandwidth to ~500 Mbps (for demo purpo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 currently connected, tests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b: getting close to firs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ese telescopes back in business soon (rumors of fast connection to 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 during TERENA 2008, in Bruges,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-note address on e-VL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, TIGO, Mc, On, Wb, Ef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604-CE78-4E1D-98E3-4C2080F30C2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010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End of 2008: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762120"/>
            <a:ext cx="71629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lexibl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vide global base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ccess to big dis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uaranteed high data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al” e-VLBI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urn-over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4DD-FB94-4579-9FAC-9E5B577A28B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26720" y="2863800"/>
            <a:ext cx="716292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ccomplishments in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oft- and hardware develop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ims fo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3CC-07EA-4139-BC12-ED2D9ED85D4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-VLBI science/test run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 e-VLBI science projects accepted since 200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failed (in early 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 active binary systems (Algol-type, X-ray or gamma-ray binarie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of these were ToO projects, 3 part of multi-wavelength campa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adaptive observation of 16 X-ray binaries (no detections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determination of compactness of calibrator or 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spectral line 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supernova T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t proposal still waiting for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pid access to EVN provides clear benefit to users (important for  calibrator/multi-wavelength projec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llow-up observations of bursting transients were only a moderate success in 2006; two weeks delay between proposal submission and observations is too 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VBLI observing policy was changed in early 2007, to allow quick response to triggered projects (in 24 hou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ncerting lack of proposals (and trigg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0C2D-700F-41BF-B4E1-59CEE5B628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-VLBI resul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4114800" cy="385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3381120" cy="3886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200400" y="2743200"/>
            <a:ext cx="4133880" cy="3305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429000" y="3200400"/>
            <a:ext cx="2552760" cy="3049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019920" y="3200400"/>
            <a:ext cx="2558880" cy="30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B9D8-BD2C-433D-A52E-ABBB6C6E1C1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perational improve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all improvement in first ye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ust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e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f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tion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ing data loss by careful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of production data rate from 128 Mbps to 256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station fringes at 512 mb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sion of M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vi and Medicina telesc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8C04-9AC5-47DE-8F57-B36E9C45CB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perational improve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focus during second ye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of network capacity (lightpath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high data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perational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upg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distance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ion of global e-VLBI (China, Austral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CA2-0FA0-4520-8785-D4F3261401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0800" y="404640"/>
            <a:ext cx="76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3399"/>
                </a:solidFill>
                <a:latin typeface="Times New Roman"/>
              </a:rPr>
              <a:t>Network status e-EV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58920" y="1201680"/>
            <a:ext cx="6905520" cy="516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469D-F2B4-460F-A946-FC437BC45AF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Towards global baselines...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ted effort to make Xi’An and Oz-Europe demos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ssible without local Mark5 control softwar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alternative protocols, UDP and Circuit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 up of trans-Siberian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sh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91320" y="838080"/>
            <a:ext cx="2585880" cy="3562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429000" y="3886200"/>
            <a:ext cx="553392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1943-2F0A-425C-8CDD-81C82D94F2D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...and higher data rat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-grown version of Mark5 control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 increased stability,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 with packet re-ordering,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links to capacity by dropping packets at sending side, padding data stream with dummy packets at receiving side (courtesy of Casey and Hughes-J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ve packet dropping: only drop non-heade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 synchronization at corre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demanding for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733920" y="3809880"/>
            <a:ext cx="5208480" cy="241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7E7-7CAA-446D-9E01-6E4603C827D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Arpad Szomoru</dc:creator>
  <dc:description/>
  <dc:language>en-US</dc:language>
  <cp:lastModifiedBy>Arpad Szomoru</cp:lastModifiedBy>
  <dcterms:modified xsi:type="dcterms:W3CDTF">2008-01-29T16:37:52Z</dcterms:modified>
  <cp:revision>47</cp:revision>
  <dc:subject/>
  <dc:title>Slide 1</dc:title>
</cp:coreProperties>
</file>